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416-A290-49D3-A5B7-7F634FC5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4FD-0D99-424E-B85F-3993C1F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938-8EE4-4ECC-AD13-51D9F099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50A-624F-44EF-BE2A-362874C1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963-08C7-4DB8-932B-C630894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6D8-F245-437C-ADB1-2491CBC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D5AF-F71C-42F5-9A85-EA68C4A8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FF4-B02F-4EE8-B7A8-AC0A9C60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605-5A17-445C-99B3-22DBB82D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D3C-CFF7-4DFD-BC41-6CAE2F1B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B93-7597-4184-9BE6-F1C8CA7F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64C-35AA-4BC2-995B-D06F276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8911-A5E5-44AA-A0AB-E64B9ACE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27200" y="1001880"/>
            <a:ext cx="7807320" cy="517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1523880"/>
            <a:ext cx="27432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447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8288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73760" y="350532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191120"/>
            <a:ext cx="2438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45160" y="4114800"/>
            <a:ext cx="6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4952880"/>
            <a:ext cx="54100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45160" y="5181480"/>
            <a:ext cx="15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562720"/>
            <a:ext cx="24382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942840"/>
            <a:ext cx="871524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971800" y="160020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35200" y="1539720"/>
            <a:ext cx="6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193840"/>
            <a:ext cx="19814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1840" y="213372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498760"/>
            <a:ext cx="19814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4640" y="2438280"/>
            <a:ext cx="5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24960" cy="227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193840"/>
            <a:ext cx="35049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97120" y="213372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651040"/>
            <a:ext cx="16002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49200" y="259092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7360" y="4035600"/>
            <a:ext cx="7232760" cy="1984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114800" y="4403880"/>
            <a:ext cx="106668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4343400"/>
            <a:ext cx="5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57200"/>
            <a:ext cx="1676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3048120"/>
            <a:ext cx="2057400" cy="212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0800" y="2971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610480" y="2971800"/>
            <a:ext cx="476280" cy="28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477280" y="28954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95560" y="4572000"/>
            <a:ext cx="14857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57360" y="44798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3809880"/>
            <a:ext cx="1067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3809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3809880"/>
            <a:ext cx="1752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39006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343400"/>
            <a:ext cx="6094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5334120"/>
            <a:ext cx="14857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95320" y="52419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3581280"/>
            <a:ext cx="761760" cy="212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350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5:12Z</dcterms:created>
  <dc:creator>Harry S. Mills</dc:creator>
  <dc:description/>
  <dc:language>en-US</dc:language>
  <cp:lastModifiedBy>Harry S. Mills</cp:lastModifiedBy>
  <dcterms:modified xsi:type="dcterms:W3CDTF">2008-01-01T03:20:52Z</dcterms:modified>
  <cp:revision>6</cp:revision>
  <dc:subject/>
  <dc:title>Slide 1</dc:title>
</cp:coreProperties>
</file>